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34.jpeg" ContentType="image/jpeg"/>
  <Override PartName="/ppt/media/image7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35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245-65C8-4DCD-8E74-74D35A01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E19-33EA-4A57-8241-FC2957C8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E6C-2800-47B9-8AED-3469D182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85D-9D5D-4CE6-8D6E-9AF40809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246D6-DA16-4B44-8AAF-F7BE640CB9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6F86D-7E3A-45C7-B895-E166F5B549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50685-7F28-4DC1-A477-047E85EC82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7877B-877A-458C-9710-1CD4D3F9EC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0479B-6573-4858-AE53-F897060F77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D7DF5-34F2-4449-9177-7F23003B46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E259E-3413-44BF-94BE-E77F19D752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F52-E03C-4854-A95A-C4A4CFC2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CB5C2-9A12-4888-8DB5-1B5D94070B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62FAA-FDBD-4FA1-B78B-90AE8795A8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55ACB-8C3D-4255-8C86-0A12F89613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E4C3F-C388-4A66-A06C-926080F3C6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FAFF6-0446-4179-BF5E-30ECF33767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3149B-EEFE-4209-9FA8-F07CF068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DF1FA-8C4C-4568-AF1F-C3B2C3F2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F30BA-BC39-4DE1-AB7E-D515D0AC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DA5DD-8AD8-45E4-B29D-E064F9EE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F2483-1B19-4BFD-863A-8FFC0D48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C29-5DA6-4D8E-8018-3062B038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4207C-EFAF-48CF-B7C9-EFB1C1EC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62BF8-7987-41A6-A331-907C2A1D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4B39E-7E4D-42D5-8131-8FCD4025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F8A9C-D0FA-471C-BF87-BE8A451B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D1A76-172E-4DE2-AE55-424DD60E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9FAF9-D5AE-4531-BC68-15621090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575FA-8403-427B-A3D3-FF47A58A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F7C-8EFB-496F-8342-8452943D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716E1-3035-43DE-9A33-19829896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695-C6A7-4C90-9FFD-664F5F1A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9951F-5DCB-4FA2-B033-7EFE1E5C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DEE4B-4DCC-4843-B548-740B4023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FB867-DF3D-4A4B-B3E5-0B7FE972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F7368-7CE0-4A54-A693-3EF6E282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CFE26-1DD6-4F2C-915F-9CC9D442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31738-28C3-49C3-9D87-DE93566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E161F-57D8-4485-9467-1104B3C1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BCD71E-E247-4F56-A80F-8AD0CE96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CF4F9-A6C7-49E7-9D5F-59A37CA3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4EFC7-7FA1-4447-9285-86F59579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E24-C2FA-4658-B8B1-B94FE627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A0F38-05F4-4F55-BDAC-EDD7C36C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104-FD61-4AEC-9B4F-5DF954BE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048-51B2-4D40-B74A-8667BBB0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C3D-8C4A-4AB9-B500-A4878EFF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593E-3F10-4059-9FC5-262FBCC7D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cbe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f3ecb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1143000" y="6400440"/>
            <a:ext cx="693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3ec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BF4A-7FB6-449B-9D17-AF373E0A4E17}" type="slidenum">
              <a:rPr b="0" lang="en-US" sz="1400" spc="-1" strike="noStrike">
                <a:solidFill>
                  <a:srgbClr val="f3ec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rmatShape" hidden="1"/>
          <p:cNvSpPr/>
          <p:nvPr/>
        </p:nvSpPr>
        <p:spPr>
          <a:xfrm>
            <a:off x="-8762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94E3-84C1-4546-AE02-46AAAB98A6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cbe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f3ecb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E5EE-ECFB-405B-B45F-11FB6C60ED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hyperlink" Target="http://av.rds.yahoo.com/_ylt=A9ibyJxAqKFD.rEAz4SHBqMX;_ylu=X3oDMTBwanIybjRqBHBndANhdHdfaW1nX3Jlc3VsdARzZWMDc3I-/SIG=121gpo8lc/EXP=1134754240/**http://serbianlinks.freehosting.net/eagle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av.rds.yahoo.com/_ylt=A9ibyJxAqKFD.rEAz4SHBqMX;_ylu=X3oDMTBwanIybjRqBHBndANhdHdfaW1nX3Jlc3VsdARzZWMDc3I-/SIG=121gpo8lc/EXP=1134754240/**http://serbianlinks.freehosting.net/eagle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v.rds.yahoo.com/_ylt=A9ibyJ9.maFDFP0ANhyHBqMX;_ylu=X3oDMTBwanIybjRqBHBndANhdHdfaW1nX3Jlc3VsdARzZWMDc3I-/SIG=129t93uo4/EXP=1134750462/**http://www.kgt.de/projekte/klasse5b/frederik/Bomb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http://av.rds.yahoo.com/_ylt=A9ibyJ9.maFDFP0ANhyHBqMX;_ylu=X3oDMTBwanIybjRqBHBndANhdHdfaW1nX3Jlc3VsdARzZWMDc3I-/SIG=129t93uo4/EXP=1134750462/**http://www.kgt.de/projekte/klasse5b/frederik/Bomb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FWWarchdukeMe"/>
          <p:cNvPicPr/>
          <p:nvPr/>
        </p:nvPicPr>
        <p:blipFill>
          <a:blip r:embed="rId2"/>
          <a:stretch/>
        </p:blipFill>
        <p:spPr>
          <a:xfrm>
            <a:off x="3962520" y="1752480"/>
            <a:ext cx="5181480" cy="4610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FWWprincipP"/>
          <p:cNvPicPr/>
          <p:nvPr/>
        </p:nvPicPr>
        <p:blipFill>
          <a:blip r:embed="rId3"/>
          <a:stretch/>
        </p:blipFill>
        <p:spPr>
          <a:xfrm>
            <a:off x="380880" y="1447920"/>
            <a:ext cx="3422880" cy="5410080"/>
          </a:xfrm>
          <a:prstGeom prst="rect">
            <a:avLst/>
          </a:prstGeom>
          <a:ln w="0">
            <a:noFill/>
          </a:ln>
        </p:spPr>
      </p:pic>
      <p:sp>
        <p:nvSpPr>
          <p:cNvPr id="222" name="WordArt 14"/>
          <p:cNvSpPr txBox="1"/>
          <p:nvPr/>
        </p:nvSpPr>
        <p:spPr>
          <a:xfrm>
            <a:off x="228600" y="0"/>
            <a:ext cx="8686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The Assassin and the Archduk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23" name="WordArt 15"/>
          <p:cNvSpPr txBox="1"/>
          <p:nvPr/>
        </p:nvSpPr>
        <p:spPr>
          <a:xfrm>
            <a:off x="304920" y="57150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Gavrilo Princip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shot"/>
          <p:cNvPicPr/>
          <p:nvPr/>
        </p:nvPicPr>
        <p:blipFill>
          <a:blip r:embed="rId1"/>
          <a:stretch/>
        </p:blipFill>
        <p:spPr>
          <a:xfrm>
            <a:off x="0" y="990720"/>
            <a:ext cx="5003640" cy="5867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Franz"/>
          <p:cNvPicPr/>
          <p:nvPr/>
        </p:nvPicPr>
        <p:blipFill>
          <a:blip r:embed="rId2"/>
          <a:stretch/>
        </p:blipFill>
        <p:spPr>
          <a:xfrm>
            <a:off x="5280120" y="2666880"/>
            <a:ext cx="3863880" cy="4191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Arrest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2890800"/>
          </a:xfrm>
          <a:prstGeom prst="rect">
            <a:avLst/>
          </a:prstGeom>
          <a:ln w="0">
            <a:noFill/>
          </a:ln>
        </p:spPr>
      </p:pic>
      <p:sp>
        <p:nvSpPr>
          <p:cNvPr id="227" name="WordArt 9"/>
          <p:cNvSpPr txBox="1"/>
          <p:nvPr/>
        </p:nvSpPr>
        <p:spPr>
          <a:xfrm>
            <a:off x="228600" y="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Assassin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Kaiser Wilhelm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You will be home before the leaves have fallen from the trees!!</a:t>
            </a:r>
            <a:r>
              <a:rPr b="1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wilhelm2"/>
          <p:cNvPicPr/>
          <p:nvPr/>
        </p:nvPicPr>
        <p:blipFill>
          <a:blip r:embed="rId2"/>
          <a:stretch/>
        </p:blipFill>
        <p:spPr>
          <a:xfrm>
            <a:off x="4724280" y="1447920"/>
            <a:ext cx="3880080" cy="5410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947-150x800-german-ww1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1200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4" descr="947-150x800-german-ww1"/>
          <p:cNvPicPr/>
          <p:nvPr/>
        </p:nvPicPr>
        <p:blipFill>
          <a:blip r:embed="rId4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attle of Verd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ongest and one of the bloodiest engagements of World War I.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ebruary 1916 – December 19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million men were eng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ntention of the Germans had been a battle of attrition in which they hoped to bleed the French army wh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end, they sustained almost as many casualties as the French; an estimated 328,000 to the French 348,000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947-150x800-german-ww1"/>
          <p:cNvPicPr/>
          <p:nvPr/>
        </p:nvPicPr>
        <p:blipFill>
          <a:blip r:embed="rId2"/>
          <a:stretch/>
        </p:blipFill>
        <p:spPr>
          <a:xfrm>
            <a:off x="7182000" y="0"/>
            <a:ext cx="1962000" cy="1177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flag-fr"/>
          <p:cNvPicPr/>
          <p:nvPr/>
        </p:nvPicPr>
        <p:blipFill>
          <a:blip r:embed="rId3"/>
          <a:stretch/>
        </p:blipFill>
        <p:spPr>
          <a:xfrm>
            <a:off x="0" y="0"/>
            <a:ext cx="17524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cbe"/>
                </a:solidFill>
                <a:latin typeface="Arial"/>
              </a:rPr>
              <a:t>Map 31.1: Major U.S. Operations in France, 1918</a:t>
            </a:r>
            <a:endParaRPr b="0" lang="en-US" sz="1800" spc="-1" strike="noStrike">
              <a:solidFill>
                <a:srgbClr val="f3ecbe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303200" y="649440"/>
            <a:ext cx="6537600" cy="555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pperplate Gothic Light"/>
              </a:rPr>
              <a:t>General Informatio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219320" y="19051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371600" y="19051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ed on July 28,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ded on November 11, 19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371600" y="342900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most 8,000,000 dead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** Russia the most  = 1.7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most 22,000,000 wounded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2120" y="5334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pperplate 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Copperplate Gothic Light"/>
              </a:rPr>
              <a:t>Map of Europe greatly chang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cbe"/>
                </a:solidFill>
                <a:latin typeface="Arial"/>
              </a:rPr>
              <a:t>Figure 31.1: Approximate Comparative Losses in World War I</a:t>
            </a:r>
            <a:endParaRPr b="0" lang="en-US" sz="1800" spc="-1" strike="noStrike">
              <a:solidFill>
                <a:srgbClr val="f3ecbe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41200" y="649440"/>
            <a:ext cx="8661600" cy="555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47640" indent="-647640"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hat was the job of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George Creel during the war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His job was to sell America the w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reel tried to </a:t>
            </a:r>
            <a:r>
              <a:rPr b="1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hip</a:t>
            </a:r>
            <a:r>
              <a:rPr b="1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up support for Wilson</a:t>
            </a:r>
            <a:r>
              <a:rPr b="1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 ide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Help US raise money to figh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h21GeorgeCreel"/>
          <p:cNvPicPr/>
          <p:nvPr/>
        </p:nvPicPr>
        <p:blipFill>
          <a:blip r:embed="rId1"/>
          <a:stretch/>
        </p:blipFill>
        <p:spPr>
          <a:xfrm>
            <a:off x="5638680" y="1600200"/>
            <a:ext cx="3021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pp_us_09_sm"/>
          <p:cNvPicPr/>
          <p:nvPr/>
        </p:nvPicPr>
        <p:blipFill>
          <a:blip r:embed="rId1"/>
          <a:stretch/>
        </p:blipFill>
        <p:spPr>
          <a:xfrm>
            <a:off x="0" y="2362320"/>
            <a:ext cx="3032280" cy="3843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pp_us_16_sm"/>
          <p:cNvPicPr/>
          <p:nvPr/>
        </p:nvPicPr>
        <p:blipFill>
          <a:blip r:embed="rId2"/>
          <a:stretch/>
        </p:blipFill>
        <p:spPr>
          <a:xfrm>
            <a:off x="6205680" y="2133720"/>
            <a:ext cx="2938320" cy="4267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pp_us_59_sm"/>
          <p:cNvPicPr/>
          <p:nvPr/>
        </p:nvPicPr>
        <p:blipFill>
          <a:blip r:embed="rId3"/>
          <a:stretch/>
        </p:blipFill>
        <p:spPr>
          <a:xfrm>
            <a:off x="2971800" y="0"/>
            <a:ext cx="336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ww1hun"/>
          <p:cNvPicPr/>
          <p:nvPr/>
        </p:nvPicPr>
        <p:blipFill>
          <a:blip r:embed="rId1"/>
          <a:stretch/>
        </p:blipFill>
        <p:spPr>
          <a:xfrm>
            <a:off x="1143000" y="1143000"/>
            <a:ext cx="3673440" cy="571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ww1bonds"/>
          <p:cNvPicPr/>
          <p:nvPr/>
        </p:nvPicPr>
        <p:blipFill>
          <a:blip r:embed="rId2"/>
          <a:stretch/>
        </p:blipFill>
        <p:spPr>
          <a:xfrm>
            <a:off x="4952880" y="0"/>
            <a:ext cx="3870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pperplate Gothic Light"/>
              </a:rPr>
              <a:t>Reasons for start of war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Extreme nationalism – pride in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Imperi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Militarism – building up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Alliance system  - </a:t>
            </a:r>
            <a:r>
              <a:rPr b="1" lang="en-US" sz="3200" spc="-1" strike="noStrike">
                <a:solidFill>
                  <a:srgbClr val="ff0000"/>
                </a:solidFill>
                <a:latin typeface="Copperplate Gothic Light"/>
              </a:rPr>
              <a:t>&lt;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pperplate Gothic Light"/>
              </a:rPr>
              <a:t>KEY REASON</a:t>
            </a:r>
            <a:r>
              <a:rPr b="1" lang="en-US" sz="3200" spc="-1" strike="noStrike">
                <a:solidFill>
                  <a:srgbClr val="ff0000"/>
                </a:solidFill>
                <a:latin typeface="Copperplate Gothic Light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European powers formed rival alliances to protect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pperplate Gothic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pperplate Gothic Light"/>
              </a:rPr>
              <a:t>PROBLEM</a:t>
            </a:r>
            <a:r>
              <a:rPr b="1" lang="en-US" sz="3200" spc="-1" strike="noStrike">
                <a:solidFill>
                  <a:srgbClr val="ffff00"/>
                </a:solidFill>
                <a:latin typeface="Copperplate Gothic Light"/>
              </a:rPr>
              <a:t>?</a:t>
            </a:r>
            <a:r>
              <a:rPr b="1" lang="en-US" sz="3200" spc="-1" strike="noStrike">
                <a:solidFill>
                  <a:srgbClr val="ffffff"/>
                </a:solidFill>
                <a:latin typeface="Copperplate Gothic Light"/>
              </a:rPr>
              <a:t>  One event could drag all countries involved into a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The Black Hand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in objective of the Black Hand was the creation, by means of violence, of a Greater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stated aim was: "To realize the national ideal, the unification of all Serbs. This organization prefers terrorist action to cultural activities; it will therefore remain secret."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1134"/>
          <p:cNvPicPr/>
          <p:nvPr/>
        </p:nvPicPr>
        <p:blipFill>
          <a:blip r:embed="rId2"/>
          <a:stretch/>
        </p:blipFill>
        <p:spPr>
          <a:xfrm>
            <a:off x="5029200" y="1371600"/>
            <a:ext cx="3898800" cy="5486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523880" cy="1338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72400" y="0"/>
            <a:ext cx="13716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Light"/>
              </a:rPr>
              <a:t>The spark that lit </a:t>
            </a:r>
            <a:br>
              <a:rPr sz="5400"/>
            </a:b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Light"/>
              </a:rPr>
              <a:t>the fus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event that started the Great War happened in the Balk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chduke Franz Ferdinand (Austria) was assassinated while visiting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ack Hand was responsibl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22724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Balkans"/>
          <p:cNvPicPr/>
          <p:nvPr/>
        </p:nvPicPr>
        <p:blipFill>
          <a:blip r:embed="rId4"/>
          <a:stretch/>
        </p:blipFill>
        <p:spPr>
          <a:xfrm>
            <a:off x="533520" y="4038480"/>
            <a:ext cx="8229600" cy="2819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988400" y="0"/>
            <a:ext cx="1155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09:49Z</dcterms:created>
  <dc:creator>cltadmin</dc:creator>
  <dc:description/>
  <dc:language>en-US</dc:language>
  <cp:lastModifiedBy>Vickie J. Dean</cp:lastModifiedBy>
  <dcterms:modified xsi:type="dcterms:W3CDTF">2018-02-05T17:46:44Z</dcterms:modified>
  <cp:revision>31</cp:revision>
  <dc:subject/>
  <dc:title>Slide 1</dc:title>
</cp:coreProperties>
</file>